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36F1-9A73-4CD8-8541-93655707802E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C91B-815D-4831-89A2-1C09C3753CA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BC6-81C2-4DCD-901F-301828F21E8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D47-A406-476E-8743-AD5D103EE83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5E10-2D2B-4302-BC10-9AAC8006041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A41-E2D9-4E7F-8715-E8C19A0A809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91320" y="29988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ranet2.lternet.edu/content/protecting-your-digital-research-data-and-documents-cybersecurity-briefing-1-september-2010" TargetMode="External"/><Relationship Id="rId2" Type="http://schemas.openxmlformats.org/officeDocument/2006/relationships/hyperlink" Target="https://www.dataone.org/catbps/Data%20Preservation%20and%20Backup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Managing Your Data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Backing Up Your Data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okrb@ornl.gov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" descr=""/>
          <p:cNvPicPr/>
          <p:nvPr/>
        </p:nvPicPr>
        <p:blipFill>
          <a:blip r:embed="rId1"/>
          <a:stretch/>
        </p:blipFill>
        <p:spPr>
          <a:xfrm>
            <a:off x="635040" y="7620120"/>
            <a:ext cx="1316160" cy="145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" descr=""/>
          <p:cNvPicPr/>
          <p:nvPr/>
        </p:nvPicPr>
        <p:blipFill>
          <a:blip r:embed="rId2"/>
          <a:stretch/>
        </p:blipFill>
        <p:spPr>
          <a:xfrm>
            <a:off x="2540160" y="7924680"/>
            <a:ext cx="3576600" cy="838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1" descr="nasa_3_c"/>
          <p:cNvPicPr/>
          <p:nvPr/>
        </p:nvPicPr>
        <p:blipFill>
          <a:blip r:embed="rId3"/>
          <a:stretch/>
        </p:blipFill>
        <p:spPr>
          <a:xfrm>
            <a:off x="11167920" y="7620120"/>
            <a:ext cx="1289160" cy="1116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4"/>
          <a:stretch/>
        </p:blipFill>
        <p:spPr>
          <a:xfrm>
            <a:off x="9398160" y="7543800"/>
            <a:ext cx="1269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finition of modu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o protect against data loss, create multiple copies of your files located in several sit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se files can be used to replace lost fil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8" name="Picture 6" descr="Hard Drive Fire.jpg"/>
          <p:cNvPicPr/>
          <p:nvPr/>
        </p:nvPicPr>
        <p:blipFill>
          <a:blip r:embed="rId1"/>
          <a:stretch/>
        </p:blipFill>
        <p:spPr>
          <a:xfrm>
            <a:off x="5054760" y="5867280"/>
            <a:ext cx="268920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aluable data and information can be lost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ccidental dele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res, natural disast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oftware bugs, hardware fail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mit loss of data, some of which may not be reproduc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ave time, money, productiv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Backing up your data file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41080" y="2276280"/>
            <a:ext cx="10456920" cy="717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e back-up copies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ally three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iginal, one on-site (external), and one off-sit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requency based on need / ris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igher value data should be backed up more oft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or data collected at high frequency should  be backed up more frequent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nsure that all backup copies are identical to the original fi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checksums or file comparis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Use reliable devices for backup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41080" y="2276280"/>
            <a:ext cx="11371320" cy="470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ed network driv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ally test your ability to restore information (at least once a year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ulate an actual loss, by trying to recover solely from the backed up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ed cloud file-serv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ropBox, Amazon S3, Carbonit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Test your backup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41080" y="2276280"/>
            <a:ext cx="11828520" cy="66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utomatically test backup copies of files frequently to ensure they are viable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dia degrade over tim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est copies using check sum or file compar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Know that you can recover from a data los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ally test your ability to restore information (at least once a year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ulate an actual loss, by trying to recover solely from the backed up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Protecting Your Digital Research Data and Documents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TER Forum: James Brunt, 2010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One Best Practices: 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Data Preservation and Backu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en.wikipedia.org/wiki/Backu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www.carbonite.com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aws.amazon.com/s3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en.wikipedia.org/wiki/Incremental_backu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-508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ttp://www.data-archive.ac.uk/sharing/backup.as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ist modules that are rela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1-10-13T20:55:27Z</dcterms:modified>
  <cp:revision>45</cp:revision>
  <dc:subject/>
  <dc:title>ESIP Federation 101</dc:title>
</cp:coreProperties>
</file>